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003-0B7C-4F4F-BB09-CF5DBA83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911-B3FC-4039-BC88-51A0A89C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B68A-64D5-47B2-947E-A5F077B5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58A-0D4D-4953-8CB0-92EC54C5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A4F-8106-46DE-9104-2E2AF520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A803-FBC5-4790-9529-882013D9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737B-297C-47EF-A938-724D8129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B00B-1B73-45F7-B076-F87DB98C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8CF-B648-4F94-B2F0-05C731DC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0749-6E4F-48AB-850C-F18FF30E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BBDA-0BE5-429E-A5B5-3EED19C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EA3-EA9F-4CCA-891E-7B5FB24C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B3AA-6690-401C-A9A8-E203CEA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4163-BB96-4C61-B485-56216137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404E-AAAA-408E-AEAC-BCE77A16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6CB4-CEC4-4194-851F-87118528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78C1-C070-4D08-87FA-48D7CE4B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648-35CB-4988-99B3-691612EE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A1F-8DA2-4BB8-B45E-8A6BD95E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250-6025-46CA-9FAB-EA5349AA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032-BBBD-4BE1-9A47-E23DF9ED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A84-5BD5-47F4-BA4E-AFFE74AF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790-A09F-4C30-BBDA-90D4955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E0D-48C4-4895-8B53-C0C8DE7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1125-FF2D-4815-BBBC-0608C5B76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751D-6FD3-48A9-B47B-56633805C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Skills and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sson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.A.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xplain what knowledge you have gained about model performers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xplain what knowledge you have gained about stages of learning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Question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ructure of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ing sentence (reword the question and introduce answ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(give defini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racteristics – what is good about them / automatic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nefits of using a model perfo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lly completed well by the maj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Question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ucture of ans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stag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oes each mean for a player of that leve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practices can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level are you 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how that there is an increase in pressure gradually through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are the practices you have stated useful for that stage of learn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Question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ucture of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have model performer helped you design a relevant training program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have the stages of learning helped you design a relevant training program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perform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son of performances gave me a target to achi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son allowed me to identify areas for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 was able to look at the fine detail of the skill to ensure I knew what wa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 / she motivated me to impr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 / she helped to create a training programme that would allow me to improve my skill by using their exp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NAB part 2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ges of learn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 was able to identify my stage of learning (state what it is) and create a programme to suit my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ing my stage of learning helped to select appropriate practices that would suit my ability (state what practices you will use in your programm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ing my stage of learning helped me decide how much pressure I should be working under – give an example, I am at the cognitive stage of learning therefore I have little pressure appl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.A.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is knowledge helped you design a relevant development programme to improve your performance needs identified in question 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8:14:35Z</dcterms:created>
  <dc:creator>DooganS</dc:creator>
  <dc:description/>
  <dc:language>en-US</dc:language>
  <cp:lastModifiedBy>DooganS</cp:lastModifiedBy>
  <dcterms:modified xsi:type="dcterms:W3CDTF">2010-01-11T16:55:00Z</dcterms:modified>
  <cp:revision>3</cp:revision>
  <dc:subject/>
  <dc:title>Skills and Techniques</dc:title>
</cp:coreProperties>
</file>